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922-B77B-4BA9-89DC-BD047457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5F4-4296-4472-9568-A7BFFCE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8BC-1F3D-4A9C-A832-D44FE27F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47C-2A1D-405E-8020-4945FE13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E078-F165-4AE3-881C-36F29F7F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4BCD-AC63-43B4-B619-9C52E00E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5BFD-9398-463A-83A5-2C70C326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BA08-488C-4AF6-9EB7-3563DFE7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9116-00A2-4E50-954C-5944A606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9553-8BE1-4A51-9CAA-30797771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11BD-ECBA-4E27-B175-0F048B6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534-B7AA-4530-AAAC-1C54FD76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5D34-5214-4BF6-8303-F29847A4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1FE-4B55-42B6-A418-DC0029B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2FF0-4CCF-4080-92F2-F90CBA5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F512-E810-48DB-86F5-64255105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EFDD-0A16-4C62-9C19-BF634C8E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DD7-30EC-46A1-AD83-4DDF84C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C81-A3FB-475A-A74A-3521E883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17C-B4F1-43CF-82B1-DDF18930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DD5-326E-45A0-B014-A1A9DA54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166-48B3-488C-8288-98BBB7F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5BE-501B-49C6-9B44-9778426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E4B-5962-46BE-B9FD-E8BCFE12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9B38-88BF-40ED-AF6D-48C848AA2E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DBC-63A4-4413-99D7-8AB223D5D8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Latitude and Longitu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earth is divided into lots of lines call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titud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ongitud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5" descr="Parallels of Lattitude"/>
          <p:cNvPicPr/>
          <p:nvPr/>
        </p:nvPicPr>
        <p:blipFill>
          <a:blip r:embed="rId1"/>
          <a:stretch/>
        </p:blipFill>
        <p:spPr>
          <a:xfrm>
            <a:off x="838080" y="2666880"/>
            <a:ext cx="4343400" cy="3705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Meridians of Longitude"/>
          <p:cNvPicPr/>
          <p:nvPr/>
        </p:nvPicPr>
        <p:blipFill>
          <a:blip r:embed="rId2"/>
          <a:stretch/>
        </p:blipFill>
        <p:spPr>
          <a:xfrm>
            <a:off x="6324480" y="2590920"/>
            <a:ext cx="2541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Lin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ngitude lines run north and sou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atitude lines run east and wes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ines measure distances in degree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5" descr="1"/>
          <p:cNvPicPr/>
          <p:nvPr/>
        </p:nvPicPr>
        <p:blipFill>
          <a:blip r:embed="rId1"/>
          <a:stretch/>
        </p:blipFill>
        <p:spPr>
          <a:xfrm>
            <a:off x="3429000" y="3581280"/>
            <a:ext cx="2863800" cy="297180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8"/>
          <p:cNvSpPr/>
          <p:nvPr/>
        </p:nvSpPr>
        <p:spPr>
          <a:xfrm>
            <a:off x="6019920" y="4724280"/>
            <a:ext cx="2819160" cy="838440"/>
          </a:xfrm>
          <a:prstGeom prst="leftArrow">
            <a:avLst>
              <a:gd name="adj1" fmla="val 50000"/>
              <a:gd name="adj2" fmla="val 84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838080" y="5181480"/>
            <a:ext cx="2971800" cy="838440"/>
          </a:xfrm>
          <a:prstGeom prst="rightArrow">
            <a:avLst>
              <a:gd name="adj1" fmla="val 50000"/>
              <a:gd name="adj2" fmla="val 8861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ng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here is 0 degre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quato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s 0 degree latitud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is an imaginary belt that runs halfway point between the North Pole and the South P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Picture 6" descr="equator"/>
          <p:cNvPicPr/>
          <p:nvPr/>
        </p:nvPicPr>
        <p:blipFill>
          <a:blip r:embed="rId1"/>
          <a:stretch/>
        </p:blipFill>
        <p:spPr>
          <a:xfrm>
            <a:off x="403848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7"/>
          <p:cNvSpPr/>
          <p:nvPr/>
        </p:nvSpPr>
        <p:spPr>
          <a:xfrm>
            <a:off x="533520" y="4343400"/>
            <a:ext cx="3504960" cy="1981080"/>
          </a:xfrm>
          <a:prstGeom prst="rightArrow">
            <a:avLst>
              <a:gd name="adj1" fmla="val 50000"/>
              <a:gd name="adj2" fmla="val 4423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qua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is 0 degre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me meridi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0 degrees longitude.  This imaginary line runs through the United Kingdom, France, Spain, western Africa, and Antarc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Picture 5" descr="MP00012_"/>
          <p:cNvPicPr/>
          <p:nvPr/>
        </p:nvPicPr>
        <p:blipFill>
          <a:blip r:embed="rId1"/>
          <a:stretch/>
        </p:blipFill>
        <p:spPr>
          <a:xfrm>
            <a:off x="3733920" y="3962520"/>
            <a:ext cx="25653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9"/>
          <p:cNvGrpSpPr/>
          <p:nvPr/>
        </p:nvGrpSpPr>
        <p:grpSpPr>
          <a:xfrm>
            <a:off x="3657600" y="0"/>
            <a:ext cx="2743200" cy="4038480"/>
            <a:chOff x="3657600" y="0"/>
            <a:chExt cx="2743200" cy="4038480"/>
          </a:xfrm>
        </p:grpSpPr>
        <p:sp>
          <p:nvSpPr>
            <p:cNvPr id="401" name="AutoShape 6"/>
            <p:cNvSpPr/>
            <p:nvPr/>
          </p:nvSpPr>
          <p:spPr>
            <a:xfrm>
              <a:off x="3657600" y="0"/>
              <a:ext cx="2743200" cy="4038480"/>
            </a:xfrm>
            <a:prstGeom prst="downArrow">
              <a:avLst>
                <a:gd name="adj1" fmla="val 50000"/>
                <a:gd name="adj2" fmla="val 3680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Text Box 7"/>
            <p:cNvSpPr/>
            <p:nvPr/>
          </p:nvSpPr>
          <p:spPr>
            <a:xfrm>
              <a:off x="4572000" y="0"/>
              <a:ext cx="45720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Text Box 8"/>
            <p:cNvSpPr/>
            <p:nvPr/>
          </p:nvSpPr>
          <p:spPr>
            <a:xfrm>
              <a:off x="5105520" y="0"/>
              <a:ext cx="761760" cy="35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5" descr="World"/>
          <p:cNvPicPr/>
          <p:nvPr/>
        </p:nvPicPr>
        <p:blipFill>
          <a:blip r:embed="rId1"/>
          <a:stretch/>
        </p:blipFill>
        <p:spPr>
          <a:xfrm>
            <a:off x="0" y="498600"/>
            <a:ext cx="9144000" cy="58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atitude and Longitude Resour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itude &amp; Longitude Activ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Printable Latitude &amp; Longitude Map of the Worl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itude &amp; Longitude Map Mak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itude and Longitude Quiz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5:49:11Z</dcterms:created>
  <dc:creator>Connie Campbell</dc:creator>
  <dc:description/>
  <dc:language>en-US</dc:language>
  <cp:lastModifiedBy>Erryn Garnett</cp:lastModifiedBy>
  <dcterms:modified xsi:type="dcterms:W3CDTF">2011-07-30T13:26:31Z</dcterms:modified>
  <cp:revision>8</cp:revision>
  <dc:subject/>
  <dc:title>Reading Maps</dc:title>
</cp:coreProperties>
</file>